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69D-BCDD-44D2-A5FE-194E00BA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918-AE14-421C-92F2-115A582E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6BF-AB0E-48FB-A2B3-E974F6BA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CD4-2504-437F-9381-EF8D49A5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D75-D724-4714-91A2-F7332500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1C6-528C-4E05-961B-F08930A7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D82-C6F6-4D46-ACFA-A4A0B551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02F-8DB2-4E3F-8B66-3EC4FEE4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EF5-49CF-4232-81DB-C09CB491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903-BE07-46DA-8755-95779D1B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646-E748-48A3-98B0-9F023D2F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CEB-12C7-4A2F-BB5A-A8F572F6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1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AD5B-B7FA-4483-8AE4-836B1E371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1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L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By 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1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le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103480"/>
            <a:ext cx="40384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1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o's are c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103480"/>
            <a:ext cx="40384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1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o's are awesome and c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2103480"/>
            <a:ext cx="40384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1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os are aw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12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29T16:34:05Z</dcterms:modified>
  <cp:revision>5</cp:revision>
  <dc:subject/>
  <dc:title>LEGOS</dc:title>
</cp:coreProperties>
</file>